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0BA-BDE2-460D-BBC9-83002322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351-A0ED-4D18-90B5-46F98E11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086-F693-46D2-8C35-0C58AF88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06E-C2DE-4957-AA29-F07C56A6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15D-F529-4996-B8A9-611767D3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0A5-CFD6-45E0-9397-5FA171E4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2D9-B436-4557-A7EC-25186AC2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F4E-BC36-4CF8-877B-92E30B0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B6D-CF0E-4A6E-BCA4-C893F769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C78-D58B-4255-842E-228801D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E48-DFA6-4BE3-A5D5-E34FB0A8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ED6-548F-4A6B-8389-8F2A12DF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F730-F157-4C9F-9F16-8B149EE1BA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620640"/>
            <a:ext cx="6400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ан  т</a:t>
            </a:r>
            <a:r>
              <a:rPr b="0" lang="tt-RU" sz="6600" spc="-1" strike="noStrike">
                <a:solidFill>
                  <a:srgbClr val="ffffff"/>
                </a:solidFill>
                <a:latin typeface="Arial"/>
              </a:rPr>
              <a:t>өркемчәләре.Төп сан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Бердәмлектә - көч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Авызың әйткәнне-колагың ишетсен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Хикмәт - күңел  күзендә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Предметның санын, исәбен белдер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Ничә?Күпме? Никадәр?һ.б.сорауларына җавап булып ки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 ачыклаган исем  саналмыш дип ат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Ясалышы ягыннан тамыр, кушма, парлы,тезмә саннар бу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нар гарәп һәм р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лары бел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ән белдере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 төркемчәләре:м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ъдар,тәртип,бүлем, чама, җыю санн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995640" y="836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4067280" y="18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4140360" y="2708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414036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4211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4284720" y="4797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435600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ffff"/>
                </a:solidFill>
                <a:latin typeface="Arial"/>
              </a:rPr>
              <a:t>Сүзлек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ыңгыр эш- ярамаган, ялган эш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рҗә-кәрз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чы торма- яшелчә (редька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мәкаль-послов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йтем-поговор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ынамыш-прим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Халык авыз иҗаты(фольклор)-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ерым кешеләр тарафыннан иҗат ителеп,телдән-телгә күчеп йөргән әсәрләр җыелм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Кыңгыр эш кырык елдан соң да белен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Ике уйла , бер сөйл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Татар халык мә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л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әр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лемле кеше дүрт күзле бу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Гагауз халык мәка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рәү- әрҗә турында, берәү- кәҗә турын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Белорус халык мәка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Унбишенче февр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ә көн җылы булса,яз яхшы бу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Халык сынамыш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р имәндә өч ботак,ботак саен өчәр алма.Барысы ничә ал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Сорау- табышм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үртләп туган бер түбә астында яшиләр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Табышм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ан төркемчәлә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Ми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ъдар саны(ничә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әртип саны(ничәнче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үлем саны(ничәшәр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Чама саны(ничәләп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Җыю саны(ничәү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71636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716360" y="19162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78800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4716360" y="3933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4716360" y="4941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Утыз көн, бер бәхет, бер р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пт,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ер ачы кара торма,бер аш кашыгы бал,өч- дүрт тапкыр, унбиш- егерме минут,икешәр аш кашыг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СӘЛАМӘТ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ТӘНДӘ-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СӘЛАМӘТ АКЫЛ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1төркем-  күнегүдән төп саннарны табып язар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2төркем – сәламәт булу рецеп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3төркем – сәламәт кеше  нинди булырга тиеш? (рәсем, хикәя һ.б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1:21:07Z</dcterms:created>
  <dc:creator>user</dc:creator>
  <dc:description/>
  <dc:language>en-US</dc:language>
  <cp:lastModifiedBy>Равил</cp:lastModifiedBy>
  <dcterms:modified xsi:type="dcterms:W3CDTF">2012-10-01T19:09:49Z</dcterms:modified>
  <cp:revision>5</cp:revision>
  <dc:subject/>
  <dc:title>Слайд 1</dc:title>
</cp:coreProperties>
</file>